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00C-8199-460D-BE13-E8677DE0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BC42-7553-4F37-BD59-3698A988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AD9-49B8-4B84-ACDB-9B138B52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776C-AEE1-4B1D-9480-D570EF92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FDA2-A661-4425-9F80-2EAA1F98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9F42-79A8-4045-95B2-CCAB697E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1ECD-B694-4E48-BD22-C1E0C8BD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C9EA-20F1-46F9-A708-BBC64BEC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DF5C-FEAC-416C-ACA3-4FA72621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8A1B-3ED9-43E9-9E6D-2CE34A41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77BB-91D4-43F1-8476-20F74162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583-D7EA-4B3E-8A47-D137C3F8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6D48-55B5-473C-8BF9-EDE5BC1F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85F3-C10C-4B56-81F0-D457CD5E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1F42-6420-45AF-A5B5-21E8ADA6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5B3E-9616-4F7C-A637-723157FB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0489-812D-4573-99D5-CEA004AB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AE664-C7B4-41A5-9589-6915857C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642BD-24B2-4BA9-9724-67C87854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4DC49-9D57-4501-A52C-E0F9288E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37C94-EFF5-4D90-AFE9-AD6B028F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CBCE3-5B2C-413F-9C56-6636EAFF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EBB6-5E1E-49B5-B811-BC1D931A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448E5-4AD6-449C-A5DF-F790FB7E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848BA-2A15-4036-9917-4D52CA70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02032-3A32-43DC-B979-4356FB62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203CC-E491-4CBE-90D0-BDA5ADB1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A0BAD-8409-44EC-BC71-D84D8565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C3B03-550B-4A5C-82C3-5B3A9547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90351-1896-47B5-8A27-11ECC54C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E50C1-8DDF-4B49-AC9A-FB9DB2A7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51F8E-3125-435B-A259-C35D7B4C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1851D-81EE-498E-BB5E-22B620F3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E3A8-0ECA-4987-9133-2363FD69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B5C80-89F3-4289-A660-5E4F3B74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1591A-0058-4F2C-894A-59A9D6B9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8656E-3F65-4301-990C-2F5C2E14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6C8A6-A002-4DA3-B8B4-50F19DF2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2F7BD-0106-49AE-B283-0062BF6A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2B7DB-EFDA-44F8-A50F-49412D5E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D14CD-E91C-452F-BAC9-745EFF61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6B5C1-9499-4489-BA26-284DBA3C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472B7-BE80-4D27-AB67-F49CFDE3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D326-56C1-45C2-A529-118A796F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D1D1-B5C5-4F16-AC96-61AF046F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5383-DCFA-4803-A73E-0CD2C444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78CF-23EB-4318-A4C5-42FF5729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7C78-7CCD-46DB-B623-9C70470C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62CC-BF39-4B28-A7D3-920EBB1A4A7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3039-474D-440A-9980-EE429CDE2CE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3AA3-37D2-4E03-B716-1BB633CD7B3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68FC-51E2-421B-8DE1-18F8F1B046B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7864200" cy="1901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3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Review on Database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5000"/>
            <a:ext cx="822960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he default quantity in the Orders table to 0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the Design view of the required ta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he variable that you want to set its default val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default value in the bottom bo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3" descr="default.bmp"/>
          <p:cNvPicPr/>
          <p:nvPr/>
        </p:nvPicPr>
        <p:blipFill>
          <a:blip r:embed="rId1"/>
          <a:stretch/>
        </p:blipFill>
        <p:spPr>
          <a:xfrm>
            <a:off x="1752480" y="4191120"/>
            <a:ext cx="563400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he following records to the products table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D: 10089 , PName: Bath Salts, PurchaseDate: 10/20/2008, Supplier: Bath and Beyond, PurchasePricePerPiece: $2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D: 10768 , PName: Shower Gel, PurchaseDate: 10/1/2008, Supplier: Lush, PurchasePricePerPiece: $4.50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D: 10769 , PName: Shampoo, PurchaseDate: 10/1/2007, Supplier: Lush, PurchasePricePerPiece: $8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50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he following data to the orders tab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9A67-4E47-4799-92ED-9669D7D2C2E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447920" y="2895480"/>
          <a:ext cx="6095880" cy="18288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3682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der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duct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lesMan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uant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der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llingPricePerPie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ohn Sm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/1/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7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ra Bi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/1/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7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dra sm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/1/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7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ohn Sm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/1/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query named query_1 that displays all the information from both tabl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create tab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ry Wiza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simple Query wiza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both t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which fields you want to be displayed using 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want to not show a certain field after choosing it, use &l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me the query as requi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82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query named query_2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query_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at displays all fields in both tables, but  limit the query to the Supplier "Lush"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the query using simple query wizard to select all fields from query-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the query in the design vie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suppler field, set the criteria to “Lush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check SQL by right-click and choose Show SQ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82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n aggregate query named query_3. Group the query using SalesPersonName and calculate the Average quantity he/she s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to create Aggregate quer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he query using simple query wizard and choose only salesPersonName and quant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the query in the design vie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otal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will find a new row add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total and the word GroupBy is written for both fiel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Quantity, change the word GroupBy to be Sum so that the sum of Quantity is display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orget to check SQ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DE8F-2A3E-41E2-8BC0-9A2A86849DB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group.bmp"/>
          <p:cNvPicPr/>
          <p:nvPr/>
        </p:nvPicPr>
        <p:blipFill>
          <a:blip r:embed="rId1"/>
          <a:stretch/>
        </p:blipFill>
        <p:spPr>
          <a:xfrm>
            <a:off x="5638680" y="3276720"/>
            <a:ext cx="281952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new query query_4, that displays all information in table products. Then, create a new field called RevenueAmount. This should be calculated by Quantity*SellingPricePerPie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he Query using the simple query wiza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SQL of query_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o the select statement the follow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224000" indent="-5144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…., Quantity*SellingPricePerPiece as RevenueAmoun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82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query_4, create a new field called Status. This should display "Profit"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lingPricePerPiece&gt;PurchasePricePerPiece, "Breakeven" if they were equal and "Loss" otherwi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, write the expression in English stat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lingPricePerPiece&gt;PurchasePricePerPie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=profi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SellingPricePerPiece=PurchasePricePerPie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=equa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=los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to make If statemen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to the design view of the que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nthoer field a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:IIF(SellingPricePerPiece&gt;PurchasePricePerPiece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t”, IIF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lingPricePerPiece=PurchasePricePerPiece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”,”Loss)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FE8A-7E78-4F6D-AEAC-5E5076C2F4F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Next Week (T1 &amp; T2 only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Mon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 Quiz #2 on Datab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Wednes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1 Lab 2” of Problem Solv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s for TA Paul for Today sl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82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crosstab query from query_1. Let the rows show the SalesPersonName, the columns show the product name, and calculate the sum of Quantit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Creat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ry Wizar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tab que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quer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ry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alesPersonName in ro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ProductName in colum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quantity as data and sum as function (on the righ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care which fields are required to be rows and which fields are required to be colum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care which function is required to be calculated; avg, sum, max, etc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6182-CFAB-4D43-BE69-C2C1BFDC18F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ploading Data from Exc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500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 to the "External Data" tab and then select from the Import section Exce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70ED-4BEE-4022-89D1-7DBAB9AEC27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Import_excel01.png"/>
          <p:cNvPicPr/>
          <p:nvPr/>
        </p:nvPicPr>
        <p:blipFill>
          <a:blip r:embed="rId1"/>
          <a:stretch/>
        </p:blipFill>
        <p:spPr>
          <a:xfrm>
            <a:off x="2057400" y="3276720"/>
            <a:ext cx="49528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Content Placeholder 6" descr="Import_excel02.png"/>
          <p:cNvPicPr/>
          <p:nvPr/>
        </p:nvPicPr>
        <p:blipFill>
          <a:blip r:embed="rId1"/>
          <a:stretch/>
        </p:blipFill>
        <p:spPr>
          <a:xfrm>
            <a:off x="304920" y="914400"/>
            <a:ext cx="8663040" cy="5410080"/>
          </a:xfrm>
          <a:prstGeom prst="rect">
            <a:avLst/>
          </a:prstGeom>
          <a:ln w="0">
            <a:noFill/>
          </a:ln>
        </p:spPr>
      </p:pic>
      <p:sp>
        <p:nvSpPr>
          <p:cNvPr id="20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94AA-342F-43CE-AD41-1CC307C1988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new database named Stuff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table called Orders with the fields: OrderID, ProductID, SalespersonName, SalesDate, Quantity and SellingPricePerPie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primary key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 for ProductI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 for SalespersonNam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 for SalesDat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 Create a new T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ab Create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lick on the table name to choose the design vie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writing variables Names and typ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he unique variable to be primary ke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a variable primary key: choose the variable, right click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mary ke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key variable is the one with yellow key to its lef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are required to enter values for ID, make its type number instead of autonum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9BEF-2077-4AB8-BA7A-3C8C292DF97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table called Products with the fields ProductID, PName, PurchaseDate, Supplier and PurchasePricePerPie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relationships might be require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 create a relationship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ab Database T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relationshi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both t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a relationship between variable A and variable 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07920" indent="-5140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g variable A from the first table to variable B in the second ta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07920" indent="-5140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ox will appear to you with the relationship vari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07920" indent="-5140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that variables names are correct and then press o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9083-1A2B-4B9E-8EB3-F377D9A3C6B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ina</cp:lastModifiedBy>
  <dcterms:modified xsi:type="dcterms:W3CDTF">2009-03-06T10:42:23Z</dcterms:modified>
  <cp:revision>178</cp:revision>
  <dc:subject/>
  <dc:title>CPSC 203</dc:title>
</cp:coreProperties>
</file>